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42F-040C-4FD8-88E1-05860D88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7C9-5EF0-4DB7-9C58-B84CF1A1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0B2C-887F-443F-8233-DA9BD254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452A-B23F-415F-BD45-AD6D9027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BB89-2219-4672-B624-509B272C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1432-0691-42B9-896E-233D8D64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BEAF-FE03-4F81-970E-EA972464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586C-F766-4CEF-AB77-F06FA574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CC3A-E17C-4DEA-8A52-06120866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67A9-70E3-4AA3-927D-CEBDC5A2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3C68-A9F4-40DF-B951-8028AE2A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C61-1210-42F9-8CB6-56325D85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8609-DAA1-4E78-B026-89204550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0960-38AF-4963-8EEA-2CEBB929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C4B9-049D-4C07-B3A0-6572D1C4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55AA-1E06-4D26-B26C-ED35A290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D409-3EEF-4AFC-9A19-03FB297B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D58FF-7B11-4D55-B6E0-6A6BDA9C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39BA6-0C06-4F60-9E96-326D0FB7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D29BB-327E-452C-8488-00BA9A57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9EE09-ACC1-448B-BE05-50715E75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4E512-CD1E-4594-8700-3E847AD0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079-688A-46BB-AF03-50F19F4B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513AB-3BA4-48EC-8908-AE8BDFC9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9E45C-C0C7-4C78-B15A-946F6AC5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FB13F-BE71-4A11-AA9C-E678002D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F809D-2A0B-49C6-AA7F-F36CA6DE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3209C-B05B-46D1-A727-814BA1C5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2B0CC-66ED-49F9-B71F-B8927ED8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A4171-0538-416F-B4F8-2BD0B70E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1566E-EBED-4BE7-B71E-33771655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449B8-C6BA-4910-A0A5-BB277917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2A7E7-E2FE-414B-882F-10201C48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77A-37CE-410C-8D1E-514043F7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0AB97-3322-46A6-A6CD-205A6ADC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CDFA0-AACC-495B-B572-F0E43519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5E378-118C-41FB-B56C-A9C4BD16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9383C-FF6B-4134-B619-45AC1062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FC462-4699-4A2E-A1FE-EDB73841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AF7A5-7141-43AD-A5E5-3E1BA9DA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86E71-BA12-43A1-B7D2-D32458C3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4D2E6-FBE6-407D-9AAA-4587916A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E52B7-6C0E-4909-B5C9-EEE14905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473AB-7690-4F40-AC06-9CE74847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85A-9D30-43D3-B78B-858A50C2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EF3A2-621B-4D0D-9802-A1BEE9A3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B8B56-A0E8-4C09-BA3F-77335950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A5BD1-2596-4AAB-9185-30864145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5525D-E00C-4C7D-96E5-11D7048E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4A581-0F23-4FF9-A928-C9C61054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971A1-1461-4C57-9134-12EDD5A3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93F0A-8BFF-49B0-833D-0522EC93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E48FA-65F8-452D-A31C-E996E763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FBE77-8421-4EAA-A5C4-C40E1205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BBD65-0B3A-4C1C-B666-F521A45E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407-9058-478E-9471-D6001683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88A59-7CA1-4E60-BA91-DACDCF76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CD519-3578-40EF-9D26-F902BDD7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6504E-710F-4B90-BB7E-C1230B4A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BBA85-4920-4200-BC8C-7B1339DD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1B921-3717-4681-86A0-F03122BA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1DFE7-5BCD-48C7-984A-26C1BE9B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50BEE-5752-4F14-B5D1-39E38D11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1DACF-1F03-4B11-8F59-4DD4C82A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F42C8-FB44-4BC9-80C8-6E15F30B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3D535-83AB-4F54-B311-249DFF94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771D-047C-4CF3-BC49-DF23F08A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A9DC2-D644-499D-9418-F672858A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07ECE-8150-462E-8AE5-28FD1914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693E4-3912-4982-B287-20215B4D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D8D35-AE36-41C3-993B-2FE60E0E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A9076-F319-4E81-B173-44219821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6DBF3-EA59-438D-AF6A-BA4BA6E5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76717-06C8-4D3F-A3D7-738E6247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9613D-128A-4552-B2FC-98ABE0AF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69BAF-6778-41E1-9556-70A24DBF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1DB60-F3C6-4487-AF9E-B2D5DBF6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2A3-C0E4-4547-96A9-785BCA25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D2F1D-44D2-4FB3-A0A9-78A804F6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97424-8F26-4DEA-8147-1CE6A931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08B5F-E8C0-4B74-8F3B-73F66B63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B5888-F154-4706-B729-91D76760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32C85-2306-4B39-B895-EAE1E672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BB479-6190-4933-9C88-0DE39444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76255-9A64-4438-B053-689FEA0C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FB1F9-AE40-42B4-8178-8B5BEA27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4977A-2E8E-4313-A701-396821A4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EBC9E-28BF-4F87-81AD-E073ED0A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A920-379C-479B-BE3F-77A5A009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58F35-2015-431B-8E31-9DA52235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9D0B6-ADED-4FEB-BE52-1A873D97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920F3-5113-4A7B-978D-E949BD8C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B6A10-EAF0-46A4-8E16-F8E2B59B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439D5-0B2F-432E-8C0C-04CA076E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17EA2-FE1C-4E59-818A-7D988549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C6F59-9BAB-41BD-B7B0-15F41223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5115-3F2F-4BCF-A2CE-F8246858AF8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Háromszög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3056-9096-4F09-BE38-B24F64A4399B}" type="slidenum">
              <a:rPr b="0" lang="hu-H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0786-A913-4F69-910D-5491F1E9AB7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erékszögű háromszög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Háromszög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Egyenes összekötő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Egyenes összekötő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3CC8-7E0E-4F2B-B21D-F1389CE592B7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E999-891A-46CA-8BE4-9919C0F6032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B37F-29E3-44EF-8C3B-C4BBC90F279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B537-A4A9-4991-AEBA-3C70767824E9}" type="slidenum"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6109-A7EF-4271-87B2-96E228C186EA}" type="slidenum"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Cím 1" descr=""/>
          <p:cNvPicPr/>
          <p:nvPr/>
        </p:nvPicPr>
        <p:blipFill>
          <a:blip r:embed="rId1"/>
          <a:stretch/>
        </p:blipFill>
        <p:spPr>
          <a:xfrm>
            <a:off x="566640" y="1749600"/>
            <a:ext cx="84250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8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9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romlot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javul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ugyan olyanok marad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pic>
        <p:nvPicPr>
          <p:cNvPr id="373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4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76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7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1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2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84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5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álmaimat kívánom megvalósítan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a legjobb képességeimet veszem figyelemb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figyelemmel kísérem a munkaerőpiacot és a szükséges szakemberek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még nem tudom mi lesz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9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0" name="Tartalom helye 10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92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3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Cím 1" descr=""/>
          <p:cNvPicPr/>
          <p:nvPr/>
        </p:nvPicPr>
        <p:blipFill>
          <a:blip r:embed="rId1"/>
          <a:stretch/>
        </p:blipFill>
        <p:spPr>
          <a:xfrm>
            <a:off x="493560" y="-66600"/>
            <a:ext cx="8242560" cy="19256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szülők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egyéni vélemény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tanáraim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ismerősöm, családtagom jár(t) ide, s az ő véleménye alapjá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Cím 4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528040" cy="31831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335736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Cím 6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97" name="Tartalom helye 1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8" name="Tartalom helye 1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Cím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994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235728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csalá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karri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a kettő összhangj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405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6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8" name="Tartalom helye 5" descr=""/>
          <p:cNvPicPr/>
          <p:nvPr/>
        </p:nvPicPr>
        <p:blipFill>
          <a:blip r:embed="rId2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9" name="Tartalom helye 7" descr=""/>
          <p:cNvPicPr/>
          <p:nvPr/>
        </p:nvPicPr>
        <p:blipFill>
          <a:blip r:embed="rId3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Cím 5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5742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614376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20714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álint Zsóf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Fehér Jud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Tátrai Kitt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Vas Ver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12.B osztályos tanuló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2009. November 16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49" name="Tartalom helye 7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0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52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3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431200" cy="15476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körülbelül ugyananny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sokkal tö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kevese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Cím 1" descr=""/>
          <p:cNvPicPr/>
          <p:nvPr/>
        </p:nvPicPr>
        <p:blipFill>
          <a:blip r:embed="rId1"/>
          <a:stretch/>
        </p:blipFill>
        <p:spPr>
          <a:xfrm>
            <a:off x="396720" y="-85680"/>
            <a:ext cx="8485200" cy="1927080"/>
          </a:xfrm>
          <a:prstGeom prst="rect">
            <a:avLst/>
          </a:prstGeom>
          <a:ln w="0">
            <a:noFill/>
          </a:ln>
        </p:spPr>
      </p:pic>
      <p:pic>
        <p:nvPicPr>
          <p:cNvPr id="357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8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hogy jó jegyet kapj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hogy minél műveltebb legy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hogy másoknak megfelelj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hogy folytathassam a tanulást valamilyen felsőoktatási intézményb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ím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65" name="Tartalom helye 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6" name="Tartalom helye 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5:08:36Z</dcterms:created>
  <dc:creator>Agora Kft.</dc:creator>
  <dc:description/>
  <dc:language>en-US</dc:language>
  <cp:lastModifiedBy>Jakab</cp:lastModifiedBy>
  <dcterms:modified xsi:type="dcterms:W3CDTF">2010-07-05T21:42:34Z</dcterms:modified>
  <cp:revision>64</cp:revision>
  <dc:subject/>
  <dc:title>Jövőkép és önismeret a 15-16 éves Apáczais diákoknál</dc:title>
</cp:coreProperties>
</file>