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DFA5-F0E2-4CB9-B53B-E11FE6AB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AB8D-DF47-404B-8F3C-0E8F8BDF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7A9C-0FF7-4374-B1FF-9E6A140F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47C7-BB05-45CC-96AB-CD7E22EF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4C5F-BB05-4F72-8F36-FDF5F118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0702-2AA7-4E6D-AE3C-430A8C1D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617F-E987-49B3-BB78-DDE9789E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88C3-D0FC-4A3E-B475-45689127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DFC4-6299-4680-8670-E36F0ABA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93A7-3506-4855-B223-87B14EAA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24DB-B275-483C-9BF5-B921C75F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D32F-CAB9-4BB2-921F-DFF7BBFE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A2BB-B24E-4EF1-A612-CF3C08AC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31DB-BADC-4D17-9CC6-5F9452AA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E713-4E10-47C7-9C49-425A33AD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F4E1-1418-4864-AD89-912A5C38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40F4-4FAE-4694-9C13-51554D45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1381-BF18-468F-AF0E-32C5C9F6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C748-64A2-4C6D-AF87-8D06118F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0B8B-4428-4C70-8BEF-8DCBF411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897E-F1AD-4BCB-9D9E-ED7D96DB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A32D-3221-4E69-A18E-0AFEED14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C8FF-FC83-4751-AFD7-3FF0E233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0470-CC02-40DD-9B5E-DC8D0837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4C03-CDCC-4C27-A939-F3156EF80F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A223-5400-4121-8FF0-82CB7034E8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7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 Black"/>
              </a:rPr>
              <a:t>Bevezetés a pszichológiába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ársadalomismeret Epo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9/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A kötődés – Harlow kísér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90544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543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Interiorizáció vs. behódolás: Milgram kísérlete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11280" y="1484280"/>
            <a:ext cx="42372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 pszichológia „hőskora”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000" y="6210000"/>
            <a:ext cx="331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Wilhelm Wund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141720" cy="4869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45120" y="1268280"/>
            <a:ext cx="3713040" cy="4897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48360" y="6210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igmund Fre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eud ösztönelmé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42920" y="1182600"/>
            <a:ext cx="734400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Freud pszichoszexuális fejlődéselmé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Orális (0-1 év) - száj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Anális (1-2/3 év) – végbélnyílá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Fallikus (3-5 év) – nemi szerv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LATENCIA (5/6 év – serdülőko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Genitális (serdülőkor- ) – nemi szerv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Leonardo: Szent Anna harmadmagával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627280" y="1484280"/>
            <a:ext cx="40338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eud ösztönta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3795840" cy="5184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rcRect l="0" t="5284" r="12151" b="2483"/>
          <a:stretch/>
        </p:blipFill>
        <p:spPr>
          <a:xfrm>
            <a:off x="6084720" y="1413000"/>
            <a:ext cx="2805120" cy="5184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067280" y="2060640"/>
            <a:ext cx="1944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rós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hanatosz 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Cesare Lombroso elmélete (1876)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40514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9640" y="-50760"/>
            <a:ext cx="799308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Urie Bronfenbrenner ökológiai modellj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476360" y="1515960"/>
            <a:ext cx="568944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8:53:18Z</dcterms:created>
  <dc:creator>tanar</dc:creator>
  <dc:description/>
  <dc:language>en-US</dc:language>
  <cp:lastModifiedBy>tanar</cp:lastModifiedBy>
  <dcterms:modified xsi:type="dcterms:W3CDTF">2009-09-07T09:57:04Z</dcterms:modified>
  <cp:revision>5</cp:revision>
  <dc:subject/>
  <dc:title>1. dia</dc:title>
</cp:coreProperties>
</file>